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90D-E8C3-41DC-93A0-9A01498DB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66DCC-241C-4E1C-B21E-A6064EAAB8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AF36-F2FB-47C2-8216-509BEC38C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B3AE-2F77-4900-841A-692C67275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14C93-DDA6-4A2F-9F3C-C11C41312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896-E7B8-43A8-A9E4-8E5BEF13E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FE0B-F7F1-49AD-8E78-8E7DF2705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94620-C030-45BD-9F10-862DE0E59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9AB6C-DC5E-4DF4-8A2D-F81B94192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FFAF-79DD-4C84-8099-EA10B0B31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0C05-D922-428F-90D1-9DA18A463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6B88-A6A3-4063-BBC2-5C7F0FE8B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84E76-6C45-4399-B486-8A779BAB26EE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-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nformationszeital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mputer als universelles Instr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ssen, Bildung und aktuelle Nachrich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ommunikation mit Fre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und Entertai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ls Medium vs. klassisches T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ein „Sendeprogramm“ mit Terminbindu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schiedene Blickwinkel auf Informatio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hezu beliebige Interaktion mögli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Fra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Anregun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–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 Ihre Aufmerksamke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6-24T15:51:44Z</dcterms:modified>
  <cp:revision>140</cp:revision>
  <dc:subject/>
  <dc:title>Folie 1</dc:title>
</cp:coreProperties>
</file>